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1373-4D77-4A5E-924D-9DAE3DB7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8D74-8CD0-4B1F-8CFC-293D9CDF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0ACD-4606-4E11-8C70-4B9EC046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D03B-01AE-4A77-B2A0-069AC61B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C86F-5945-43AF-998E-A6CA34EF8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C07D-2E14-4F3F-BDC8-11140B6B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382C-22E0-45AB-BC3C-D383E6A3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F5C8-BE11-4426-AB38-12A7104B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4C90-D342-40B7-B515-3821E5C1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6AAE-61B8-442F-B549-9A5F2644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3D82-2114-4756-98F4-5D6CAE98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B332-933C-4BA3-8040-9172143F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61A9-A467-4A56-A696-D406D0C2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D394-77D5-4F17-9C5F-92D84A66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162C-F33E-4AE2-8954-5A8A9167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8C5F-8B5B-4047-B019-64C19B851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E8E7-0516-4EB5-A402-4BBF8C08B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1D6C-4F94-4DF7-8FD8-ACE69E2E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4659-C609-4B6D-B845-CEE4C082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3D09-D533-4A47-AA59-D0820C3C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DCE2-BACD-4177-868F-79F9B774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6E16-C1BA-4D5E-8335-98172F31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25FD-B4B1-4434-AA66-B9E1CD6D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159D-8935-4F4F-BC96-636C4477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4AD2-8F0E-4154-A8F5-41E69CDF3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15E3-91C2-4AB0-B36B-15EB6499F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dese.mo.gov/divimprove/sia/msip/DOK_presentation.pdf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issouriartscouncil.org/html/documents/DOKlevels.pdf" TargetMode="External"/><Relationship Id="rId2" Type="http://schemas.openxmlformats.org/officeDocument/2006/relationships/hyperlink" Target="http://www.hermann.k12.mo.us/Curriculum/DOK/depth.of.knowledge.descriptors.pdf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esigning and Planning Technology-Enhanced Instruction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hapter 2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tep 3: Establish the Learning Environmen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676160"/>
            <a:ext cx="7313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hysical spa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ell-lit reading are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armer or cooler se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formal seating are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et or screened study are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assroom climat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lexibility, cooperation, healthy competition, active learn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ttitud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eacher positive and encourag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tudents confid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ep 4: Identify T &amp; L Strategi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540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66"/>
                </a:solidFill>
                <a:latin typeface="Verdana"/>
              </a:rPr>
              <a:t>Teaching strateg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thods used to assist students in achieving the objectiv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66"/>
                </a:solidFill>
                <a:latin typeface="Verdana"/>
              </a:rPr>
              <a:t>Learning strateg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echniques and activities students are required to engage in to master the cont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aching and learning strategies are components of the </a:t>
            </a:r>
            <a:r>
              <a:rPr b="0" lang="en-US" sz="2900" spc="-1" strike="noStrike">
                <a:solidFill>
                  <a:srgbClr val="ff0066"/>
                </a:solidFill>
                <a:latin typeface="Verdana"/>
              </a:rPr>
              <a:t>Pedagogical Cyc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edagogical Cyc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Picture 5" descr="fig2"/>
          <p:cNvPicPr/>
          <p:nvPr/>
        </p:nvPicPr>
        <p:blipFill>
          <a:blip r:embed="rId1"/>
          <a:stretch/>
        </p:blipFill>
        <p:spPr>
          <a:xfrm>
            <a:off x="905040" y="1600200"/>
            <a:ext cx="7934040" cy="52578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380880" y="6248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. 6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1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ep 5: Identify &amp; Select Technologi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61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structional technologies are the tools used to enhance and support the teaching and learning strategies planned…”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chnology’s primary role is in support of the strategies …select[ed]”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3013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ep 6: Plan Summative Evalu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9810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valuate effectiven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ke appropriate revis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ltimate evaluation is students’ performance based on instructional objectiv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e student achievement and other feedback to make improvements in your instructional desig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table2"/>
          <p:cNvPicPr/>
          <p:nvPr/>
        </p:nvPicPr>
        <p:blipFill>
          <a:blip r:embed="rId1"/>
          <a:stretch/>
        </p:blipFill>
        <p:spPr>
          <a:xfrm>
            <a:off x="76320" y="30492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4876920" y="64771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. 64-6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table2"/>
          <p:cNvPicPr/>
          <p:nvPr/>
        </p:nvPicPr>
        <p:blipFill>
          <a:blip r:embed="rId1"/>
          <a:stretch/>
        </p:blipFill>
        <p:spPr>
          <a:xfrm>
            <a:off x="0" y="225360"/>
            <a:ext cx="8991720" cy="63007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6934320" y="5867280"/>
            <a:ext cx="12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cccc"/>
                </a:solidFill>
                <a:latin typeface="Verdana"/>
              </a:rPr>
              <a:t>3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esson Plann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22096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sson plan is the daily instructional guidel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llows same basic organization as the instructional desig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sson plan steps a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adying the learn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argeting specific objectiv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eparing the less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table2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771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609480" y="62485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.70-7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5"/>
          <p:cNvSpPr/>
          <p:nvPr/>
        </p:nvSpPr>
        <p:spPr>
          <a:xfrm>
            <a:off x="1143000" y="1981080"/>
            <a:ext cx="7010280" cy="371700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ormata-MediumCondensed"/>
              </a:rPr>
              <a:t>STEP 3: PREPARE THE LESSON (cont.)</a:t>
            </a:r>
            <a:r>
              <a:rPr b="1" lang="en-US" sz="1400" spc="-1" strike="noStrike">
                <a:solidFill>
                  <a:srgbClr val="000000"/>
                </a:solidFill>
                <a:latin typeface="Formata-MediumCondense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Formata-MediumCondensed"/>
              </a:rPr>
              <a:t>EXAMPLES (cont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Formata-CondensedItalic"/>
              </a:rPr>
              <a:t>                                                             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Formata-CondensedItalic"/>
              </a:rPr>
              <a:t>Technology/Media Prepar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Scan, print, and make copies of bank 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center forms. Enlarge one of each and 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laminate them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Prepare money equivalence 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transparen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Create a chart of bank processes on a 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computer, print out, enlarge, and 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laminat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Locate a suitable bank web site to 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shar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Formata-CondensedItalic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Formata-CondensedItalic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Formata-CondensedItalic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Formata-CondensedItalic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Formata-CondensedItalic"/>
              </a:rPr>
              <a:t>Assessment Prepar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Prepare and administer a quiz asking 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students to fill in each type of 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form and to compute their account 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bal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esson Plan (cont.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ffective Learning Environmen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learning environment includes all conditions, circumstances, and influences that affect the learner’s development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hysical environ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eaching and learning proces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ategies and technolog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a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sessment techniqu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quires systematic plann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structional Action Plann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1827360"/>
            <a:ext cx="80010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rticulate your lesson’s to-do lis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tail all preparations necessary for a successful less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action planning steps ar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dentifying learner preparation activit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etting classroom read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isting teaching-learning activit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ing personal promp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isting support technolog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isting feedback instrumen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tailing follow-up activit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table2"/>
          <p:cNvPicPr/>
          <p:nvPr/>
        </p:nvPicPr>
        <p:blipFill>
          <a:blip r:embed="rId1"/>
          <a:stretch/>
        </p:blipFill>
        <p:spPr>
          <a:xfrm>
            <a:off x="609480" y="96840"/>
            <a:ext cx="8153640" cy="67611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990720" y="64008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. 72-7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7800"/>
            <a:ext cx="73134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ction Planner (cont.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80880" y="1447920"/>
            <a:ext cx="4419720" cy="533376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-DO #5: LIST SUPPORT TECHNOLOG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Describe the things you need to do to ensure that the technologies you have selected are available and work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technologies and related materials need to be acquired for another source? From whe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hardware or software adjustments need to be mad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ich technologies need to be checked to be sure they are functioning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-DO #6: LIST FEEDBACK INSTRU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Describe the feedback instruments you need to have ready for this less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you need for formative feedback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you need for summative feedback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-DO #7: DETAIL FOLLOW-UP ACTIV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Given the feedback, describe the follow-up activit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lesson was not successful, what remediation is plann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lesson was successful, what reinforcement is plann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5257800" y="114300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800600" y="1447920"/>
            <a:ext cx="4191120" cy="533376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Technology Checklis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___ Make sure the scanner is work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___ Check the printer cartrid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___ Get colored paper from the art roo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___ Get ink-jet transparency film from the offi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___ Install a software upgra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___ Print the home page of web sites on which to make not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___ Check the LCD display for all cables and to be sure it i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ork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Feedback Checklis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___ Rubric for assessing performance while at the bank cent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___ Quiz on filling in forms and determining balan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___ Lesson objective test on terms and concep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___ Student satisfaction questionnai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Remediation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werPoint self-paced review of key terms followed by a quiz on key points; direct tutoring or peer mentoring if mastery is not demonstrated on quiz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Reinforcement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tinued use of the bank center for a token-economy reward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151920"/>
            <a:ext cx="7313400" cy="137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lanning, Teaching,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earning and Technolog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ig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lueprint of overall uni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la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arrows the planning to a specific objective and knowledge seg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esson plan to-do lis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chnolo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nly after instructional planning comple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ke better or create new possibil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structional Planning Syste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9810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3300"/>
                </a:solidFill>
                <a:latin typeface="Verdana"/>
              </a:rPr>
              <a:t>Design-Plan-Act (DPA)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3300"/>
                </a:solidFill>
                <a:latin typeface="Verdana"/>
              </a:rPr>
              <a:t>Design: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Design the instructional unit (Create your </a:t>
            </a:r>
            <a:r>
              <a:rPr b="0" lang="en-US" sz="2900" spc="-1" strike="noStrike">
                <a:solidFill>
                  <a:srgbClr val="cc3300"/>
                </a:solidFill>
                <a:latin typeface="Verdana"/>
              </a:rPr>
              <a:t>unit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design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3300"/>
                </a:solidFill>
                <a:latin typeface="Verdana"/>
              </a:rPr>
              <a:t>Plan: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Articulate specific lesson plans (Design your </a:t>
            </a:r>
            <a:r>
              <a:rPr b="0" lang="en-US" sz="2900" spc="-1" strike="noStrike">
                <a:solidFill>
                  <a:srgbClr val="cc3300"/>
                </a:solidFill>
                <a:latin typeface="Verdana"/>
              </a:rPr>
              <a:t>daily lesson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3300"/>
                </a:solidFill>
                <a:latin typeface="Verdana"/>
              </a:rPr>
              <a:t>Act: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Develop an instructional action plan (Write the </a:t>
            </a:r>
            <a:r>
              <a:rPr b="0" lang="en-US" sz="2900" spc="-1" strike="noStrike">
                <a:solidFill>
                  <a:srgbClr val="cc3300"/>
                </a:solidFill>
                <a:latin typeface="Verdana"/>
              </a:rPr>
              <a:t>to-do list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80520"/>
            <a:ext cx="731340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ynamic Instructional Design (DID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Picture 5" descr="fig2"/>
          <p:cNvPicPr/>
          <p:nvPr/>
        </p:nvPicPr>
        <p:blipFill>
          <a:blip r:embed="rId1"/>
          <a:stretch/>
        </p:blipFill>
        <p:spPr>
          <a:xfrm>
            <a:off x="1143000" y="990720"/>
            <a:ext cx="7543800" cy="5715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1295280" y="5943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. 4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5791320" y="1168560"/>
            <a:ext cx="320040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Continually growth and adjustment based on data provided by ongoing feedba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ep 1: Know the Learn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velopmental st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ultural or language backgroun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oming skills and knowledg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arning &amp; cognitive styles, types of intellig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oup similarities and differences and how they might affect the desig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ep 2: State Your Objectiv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2362320"/>
            <a:ext cx="7388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Use Performance Objectives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Use action verbs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Use Depth of Knowledge to target higher order thinking skills (not Bloom’s Taxonomy) </a:t>
            </a: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dese.mo.gov/divimprove/sia/msip/DOK_presentation.pd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erformance Objectiv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1827000"/>
            <a:ext cx="784872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900" spc="-1" strike="noStrike">
                <a:solidFill>
                  <a:srgbClr val="33cccc"/>
                </a:solidFill>
                <a:latin typeface="Verdana"/>
              </a:rPr>
              <a:t>The student will be able to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990099"/>
                </a:solidFill>
                <a:latin typeface="Verdana"/>
              </a:rPr>
              <a:t>identify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990099"/>
                </a:solidFill>
                <a:latin typeface="Verdana"/>
              </a:rPr>
              <a:t>latitude and longitude line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ff00"/>
                </a:solidFill>
                <a:latin typeface="Verdana"/>
              </a:rPr>
              <a:t>on a map </a:t>
            </a:r>
            <a:r>
              <a:rPr b="0" lang="en-US" sz="2900" spc="-1" strike="noStrike">
                <a:solidFill>
                  <a:srgbClr val="ff0066"/>
                </a:solidFill>
                <a:latin typeface="Verdana"/>
              </a:rPr>
              <a:t>with 100 % accuracy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cccc"/>
                </a:solidFill>
                <a:latin typeface="Verdana"/>
              </a:rPr>
              <a:t>Stem: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The student will be able t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0099"/>
                </a:solidFill>
                <a:latin typeface="Verdana"/>
              </a:rPr>
              <a:t>Target performance: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…identify latitude and longitude lines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ff00"/>
                </a:solidFill>
                <a:latin typeface="Verdana"/>
              </a:rPr>
              <a:t>Measurement conditions: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…on a map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Verdana"/>
              </a:rPr>
              <a:t>Criterion for success: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with 100% accurac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786960" y="4876920"/>
            <a:ext cx="7467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www.missouriartscouncil.org/html/documents/DOKlevels.pd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9"/>
          <p:cNvSpPr/>
          <p:nvPr/>
        </p:nvSpPr>
        <p:spPr>
          <a:xfrm flipV="1" rot="10800000">
            <a:off x="1523880" y="5409720"/>
            <a:ext cx="59436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</a:t>
            </a:r>
            <a:r>
              <a:rPr b="0" lang="en-US" sz="18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www.hermann.k12.mo.us/Curriculum/DOK/depth.of.knowledge.descriptors.pd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epth of Knowledge (DOK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90720" y="1676520"/>
            <a:ext cx="7848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four levels of D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a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kill/Conce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ategic Thin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ded Thin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787920" y="152280"/>
            <a:ext cx="4975200" cy="64771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990720" y="2100240"/>
            <a:ext cx="3047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diagram shows the four DOK levels, associated verbs and sample activities. A full sized chart can be found in the Chapter Two folder on Blackboar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20:39:36Z</dcterms:created>
  <dc:creator>Blackwood</dc:creator>
  <dc:description/>
  <dc:language>en-US</dc:language>
  <cp:lastModifiedBy>AB_Buckrie</cp:lastModifiedBy>
  <dcterms:modified xsi:type="dcterms:W3CDTF">2017-02-02T08:29:45Z</dcterms:modified>
  <cp:revision>16</cp:revision>
  <dc:subject/>
  <dc:title>Designing and Planning Technology-Enhanced Instruction Chapter 2</dc:title>
</cp:coreProperties>
</file>